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A00-0284-42B8-B1D1-B866030F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B66-9C08-4299-984D-92AB6C6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ECCFA-E701-437B-B98B-AAD81FF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520C-274F-4BF5-ADCE-E57E24AF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A93AA-1C1C-4377-82B0-BADE80CA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C280E-2658-4BF4-BA34-5513153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61704-5645-445F-BE67-03832E2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1C3D-6CE5-46C8-B31E-7E4284E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33CFA-1630-4ED4-84AC-491AC44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A70A6-FD5F-4C1A-A731-7A860338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B6A77-DE47-476C-8B02-4C22E53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716-F419-43DD-8F62-809F805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B63-6E6E-4F07-83DD-81A12605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4D6-41A6-4EF9-8682-BDC7914F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6B79-87C4-45E4-A3E9-26A3595A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02B-120A-4549-B77F-4D50AD7E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71A2-609D-46F6-A5CF-3C85F91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355-7DAB-4597-8C2B-CAC16451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334-3A07-4FE4-A2B2-B6AF6A0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5534-921A-4F16-8D7D-FAFCE6B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B90-899D-45F5-A620-EE732B10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ED7-5313-425F-A78C-843D676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34BD-5668-422A-B071-D397EE1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9D9-7ED2-4247-9D43-0AA5025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AB1-C996-4D84-B1EE-B50D897F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D26-340C-425F-8CBC-50B981B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0EBF-8DAD-4B90-ADCF-3AD779D9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7575-4750-4C2C-A910-066436A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FE91-088A-43A2-929E-74942CB6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3E0A-A2E0-46AB-AC4F-93C3D60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2C59-831C-4979-9C65-14EDFE4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690-8929-4490-AA56-C2E7D38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4FE0-9259-4DFE-9300-9214971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CE14-ED86-4C51-86CA-DE01951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D29D-9120-4B40-9217-B92D0C4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BC1A-BCF1-476E-8F10-6DD5CE3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0902-6460-4B09-91FC-325050B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079C-35D6-412C-899C-BF8A5123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9995-EA8A-4643-A497-C7193294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6817-F96C-4E61-91C1-F565C14D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D9DC-5A34-4B9D-BC40-BAE764F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18CE-BBF3-4751-A407-5B559C1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731-07AA-432D-974E-AF53C5C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C0DA-28FC-40AC-8965-6A5C994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99E8-0764-4B19-AD87-2FA37F5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2208-E98F-4876-BA56-CD855B7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34BE-8E97-42A5-9759-015FD22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A368-D638-41C0-A10F-7504019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881A-5673-4A89-AB4F-F8A3ACD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00F9-1502-411F-919C-A964369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74CFE-0E3C-4B63-A49A-A7DE6E7D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DE02-4DE1-451E-A990-B847F463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C91B-12A9-4584-B0BA-086E702F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7FC-2D84-497F-BCBE-03CAAC59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D828-DE07-47AD-9FEC-995A366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11DD-A53E-420E-B23E-60DF14C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4F1C-DB58-4406-8A94-802BB3D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F35D-1C0F-4EC9-99DF-8129633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6A8F-15D2-42E2-925C-070698B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9BAF-A7DB-4F62-81C7-A18EEC4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3E93-E4D3-41AC-9840-3579411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8079-DFC6-42C9-A337-608F17E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8B8B-68E3-45E6-957E-FAF8E80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01D3-191C-48A4-BDB2-2B6D2BCA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A79-B191-4DF6-8E49-8C6AD32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3BC2-59B2-4B5C-85B0-8DCA569F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AB4FB-07D6-47FE-AD4B-BB99431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D1A2-9101-4B3D-99DF-C0E81B6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8780-797A-44A9-B64D-CC22904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11BA-B6DD-408C-8D29-0CD159CD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EE94-B095-467B-AB6D-C91EE8AE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6B0B7-6706-4869-A402-94623A6A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9214-4006-46A4-BFB3-C8682A2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17C6-0C9D-42B2-9200-9D58B0B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10F1-A62F-41B6-806A-15FDFE6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6D5-E78D-4E46-BA86-8EA151C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454A7-934C-40CD-978E-F74343B6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6511-0B74-4F2A-929D-A1DAA995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2508-F015-4EAA-9551-662C3AF5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BB4C-BF6C-4A68-8ECA-B349C2FE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68E03-7E9B-4D85-8994-28A5B8A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7D88-D7F9-4383-8CA4-653392A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4E7B-CC71-49FD-AA96-59AF61D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950A-4FD3-4218-8EE4-37C6522E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5E29-DA52-4CB5-A5F1-74A7703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01B1-95BC-4BE8-B353-CE26189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BDB-7CFB-4BFA-82EE-C1EF83B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5F5F-257C-4EBF-8831-15F0FF4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1969-AF14-4F5F-A52A-C720B55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6294-E087-48DF-86AB-EBEAA36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2F71-B88E-4FDA-9A75-F3B25B6B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0C685-A720-4EA3-B316-CDC0F5C8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F2D6C-F591-405B-B0F2-3D2F8B3A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ABAB-FCD4-4E07-B9DA-267C7E4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57210-6F7A-477C-9C1D-A06BCB2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77A6-20A3-4FDA-9E4F-5F90C712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0C8B1-78C9-4F43-BCA4-5C41021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C60-20E9-4056-B417-A1A43F3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F198-4CB4-4F18-9786-071F59D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A8E60-9EC1-48CE-82C4-EB9D6F3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2132-7885-4798-93A2-F2B89E1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CB99-9CB3-4C57-8961-C5035C3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3C00-632D-461A-B5D6-0A89207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19A57-1644-4CBA-942D-590D79D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5916-C06F-4ED6-84A4-A0A2CA94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7B690-AEE7-4416-AC4A-98FB6D88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DA43C-33CA-430B-B89D-F26896E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C63D0-589A-4F7F-AC5D-D1080A9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18CC-8A58-475B-9EC9-0E3215B065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EBE0-1ED1-46F2-83DA-9BBE08843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5C3-9230-4896-89F0-A52FC16E9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51E-08BB-46A6-9EBE-16BDD0DF5E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6EC-766A-45AD-A0E2-99BFA9EBF6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162-EF74-46B7-A59E-26808C3E25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FB5-7310-47AB-B947-A52065116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6B41-DB50-4019-8E00-F430871C4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689-26C9-433C-ABEE-C8F461107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457200" y="1600200"/>
          <a:ext cx="8229600" cy="455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no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nd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invat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ar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9:59Z</dcterms:created>
  <dc:creator>Alexandru B</dc:creator>
  <dc:description/>
  <dc:language>en-US</dc:language>
  <cp:lastModifiedBy>Csip</cp:lastModifiedBy>
  <dcterms:modified xsi:type="dcterms:W3CDTF">2011-01-29T16:24:41Z</dcterms:modified>
  <cp:revision>9</cp:revision>
  <dc:subject/>
  <dc:title>Diagrama KVL</dc:title>
</cp:coreProperties>
</file>